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FB8-C173-4DFC-B11E-18DEA6F2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C87-9240-4646-A88F-62A08F8C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E8C-294D-487B-896E-CD3F15E5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133-CE7E-445D-9E7A-9E7E4FA0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F518-2EE3-4ACF-BD4D-426EC1F9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336D-EC72-4ECD-9B60-F797589D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C36E-1D55-4D5F-8B44-E3D6E838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10CD-897F-408E-9D20-58CBDAC8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E103-901F-42D5-BC3F-EE9ED3F9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F5A5-9554-43EE-A4B3-DAB8CC07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D65C-F67D-46DB-9803-F346BF2F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EFA-B466-4124-85FF-2D7C2E54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063A-FEF4-4B74-8254-4EF46845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5CE5-E73D-4BD2-939B-1C2A0529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70FD-44B8-4D8F-BBB0-771B5E80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537E-2DC0-42AE-9929-233C8A57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4098-129B-4715-A620-17893343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7A9-B42C-4C51-A8D0-35BF1C0B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157-2AA4-4710-8E23-177E2D50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546-2E59-45B1-B3B7-17071E58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B63-C34D-4F18-9A03-0CBC7C3A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33A-850E-4E32-BAAB-3C401781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E77-FDDB-4589-A101-FA44BC0C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E6A-1CBE-4028-977C-0408A960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995D-1CDD-4DFB-8888-71D1BF3EE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02E0-9D90-4405-B4CB-33673ECA74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Исследовательская работа </a:t>
            </a:r>
            <a:br>
              <a:rPr sz="3600"/>
            </a:br>
            <a:r>
              <a:rPr b="1" lang="ru-RU" sz="4000" spc="-1" strike="noStrike">
                <a:solidFill>
                  <a:srgbClr val="afe1ff"/>
                </a:solidFill>
                <a:latin typeface="Garamond"/>
              </a:rPr>
              <a:t>Тема: «Сколько весит </a:t>
            </a:r>
            <a:br>
              <a:rPr sz="4000"/>
            </a:br>
            <a:r>
              <a:rPr b="1" lang="ru-RU" sz="4000" spc="-1" strike="noStrike">
                <a:solidFill>
                  <a:srgbClr val="afe1ff"/>
                </a:solidFill>
                <a:latin typeface="Garamond"/>
              </a:rPr>
              <a:t>здоровье ученика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вто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ешк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рин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б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ерспективная начальная 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0" descr="Изображение 00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Garamond"/>
              </a:rPr>
              <a:t>Актуальность тем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Times New Roman"/>
              </a:rPr>
              <a:t>Болезни опорно-двигательного аппарата - одни из самых распространенных.   Очень часто дети и подростки обращаются к врачам жалобами на боли в спине, в пояснице, в шее, головные боли, быструю утомляемость при длительной ходьб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Times New Roman"/>
              </a:rPr>
              <a:t>Все эти неполадки в организме связаны с проблемами позвоночника и формированием неправильной осанки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Times New Roman"/>
              </a:rPr>
              <a:t>Одна из причин этого явления - ношение тяжелых портфелей и ранц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285840" y="4500720"/>
            <a:ext cx="3500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aramond"/>
              </a:rPr>
              <a:t>Цель исследования</a:t>
            </a:r>
            <a:r>
              <a:rPr b="1" lang="ru-RU" sz="1800" spc="-1" strike="noStrike">
                <a:solidFill>
                  <a:srgbClr val="cc0000"/>
                </a:solidFill>
                <a:latin typeface="Garamond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afe1ff"/>
                </a:solidFill>
                <a:latin typeface="Garamond"/>
              </a:rPr>
              <a:t>Обратить внимание на состояние своего здоровья (осанки) путем ежедневного контроля тяжестей за спи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3857760" y="3000240"/>
            <a:ext cx="500040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aramond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анализировать данные в медицинской литературе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исать, как влияют тяжелые ранцы на растущий организм ребенка, к каким последствиям это привод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казать, что тяжелый портфель вредит здо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ложить свои способы решения пробл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Diagram 6"/>
          <p:cNvGrpSpPr/>
          <p:nvPr/>
        </p:nvGrpSpPr>
        <p:grpSpPr>
          <a:xfrm>
            <a:off x="324360" y="398880"/>
            <a:ext cx="3745080" cy="5832360"/>
            <a:chOff x="324360" y="398880"/>
            <a:chExt cx="3745080" cy="5832360"/>
          </a:xfrm>
        </p:grpSpPr>
        <p:sp>
          <p:nvSpPr>
            <p:cNvPr id="219" name="_s1028"/>
            <p:cNvSpPr/>
            <p:nvPr/>
          </p:nvSpPr>
          <p:spPr>
            <a:xfrm flipH="1" flipV="1">
              <a:off x="1271520" y="3055680"/>
              <a:ext cx="462600" cy="2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1029"/>
            <p:cNvSpPr/>
            <p:nvPr/>
          </p:nvSpPr>
          <p:spPr>
            <a:xfrm>
              <a:off x="324360" y="2028960"/>
              <a:ext cx="972000" cy="1570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Опро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1030"/>
            <p:cNvSpPr/>
            <p:nvPr/>
          </p:nvSpPr>
          <p:spPr>
            <a:xfrm flipH="1">
              <a:off x="1625400" y="4176360"/>
              <a:ext cx="285120" cy="63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1031"/>
            <p:cNvSpPr/>
            <p:nvPr/>
          </p:nvSpPr>
          <p:spPr>
            <a:xfrm>
              <a:off x="853920" y="4660920"/>
              <a:ext cx="972360" cy="1570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Анали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1032"/>
            <p:cNvSpPr/>
            <p:nvPr/>
          </p:nvSpPr>
          <p:spPr>
            <a:xfrm>
              <a:off x="2481840" y="4176360"/>
              <a:ext cx="286560" cy="63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33"/>
            <p:cNvSpPr/>
            <p:nvPr/>
          </p:nvSpPr>
          <p:spPr>
            <a:xfrm>
              <a:off x="2567520" y="4660920"/>
              <a:ext cx="972000" cy="15703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Экспериме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34"/>
            <p:cNvSpPr/>
            <p:nvPr/>
          </p:nvSpPr>
          <p:spPr>
            <a:xfrm flipV="1">
              <a:off x="2657880" y="3055680"/>
              <a:ext cx="463680" cy="2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1035"/>
            <p:cNvSpPr/>
            <p:nvPr/>
          </p:nvSpPr>
          <p:spPr>
            <a:xfrm>
              <a:off x="3097440" y="2027520"/>
              <a:ext cx="972000" cy="15703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Сбор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информ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36"/>
            <p:cNvSpPr/>
            <p:nvPr/>
          </p:nvSpPr>
          <p:spPr>
            <a:xfrm flipV="1">
              <a:off x="2196360" y="1969920"/>
              <a:ext cx="0" cy="78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37"/>
            <p:cNvSpPr/>
            <p:nvPr/>
          </p:nvSpPr>
          <p:spPr>
            <a:xfrm>
              <a:off x="1710360" y="398880"/>
              <a:ext cx="972000" cy="157068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Наблюд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1038"/>
            <p:cNvSpPr/>
            <p:nvPr/>
          </p:nvSpPr>
          <p:spPr>
            <a:xfrm>
              <a:off x="1710360" y="2756880"/>
              <a:ext cx="972000" cy="15703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Garamond"/>
                </a:rPr>
                <a:t>Метод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Garamond"/>
                </a:rPr>
                <a:t>исследования</a:t>
              </a:r>
              <a:r>
                <a:rPr b="0" lang="en-US" sz="13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Rectangle 3"/>
          <p:cNvSpPr/>
          <p:nvPr/>
        </p:nvSpPr>
        <p:spPr>
          <a:xfrm>
            <a:off x="2700360" y="4005360"/>
            <a:ext cx="60595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Font typeface="Garamon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Гипотеза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: мы предполагаем, что тяжелый ранец вредит здоровь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3"/>
          <p:cNvSpPr/>
          <p:nvPr/>
        </p:nvSpPr>
        <p:spPr>
          <a:xfrm>
            <a:off x="4786200" y="357120"/>
            <a:ext cx="4000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aramond"/>
              </a:rPr>
              <a:t>Объект исследовани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ченики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класса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Garamond"/>
              </a:rPr>
              <a:t>Предмет исследовани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санка школьника – основа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Год от года школьные ранцы становятся все тяжелее и тяжелее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9" descr="DSC01029"/>
          <p:cNvPicPr/>
          <p:nvPr/>
        </p:nvPicPr>
        <p:blipFill>
          <a:blip r:embed="rId1"/>
          <a:stretch/>
        </p:blipFill>
        <p:spPr>
          <a:xfrm>
            <a:off x="500040" y="1785960"/>
            <a:ext cx="1363680" cy="1601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Изображение 020"/>
          <p:cNvPicPr/>
          <p:nvPr/>
        </p:nvPicPr>
        <p:blipFill>
          <a:blip r:embed="rId2"/>
          <a:stretch/>
        </p:blipFill>
        <p:spPr>
          <a:xfrm>
            <a:off x="2000160" y="1785960"/>
            <a:ext cx="2457720" cy="1757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Изображение 015"/>
          <p:cNvPicPr/>
          <p:nvPr/>
        </p:nvPicPr>
        <p:blipFill>
          <a:blip r:embed="rId3"/>
          <a:stretch/>
        </p:blipFill>
        <p:spPr>
          <a:xfrm>
            <a:off x="4786200" y="35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6"/>
          <p:cNvSpPr/>
          <p:nvPr/>
        </p:nvSpPr>
        <p:spPr>
          <a:xfrm>
            <a:off x="4786200" y="1643040"/>
            <a:ext cx="400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санку школьника портят тяжелые ранцы и особенно портфел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500040" y="4214880"/>
            <a:ext cx="371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fe1ff"/>
                </a:solidFill>
                <a:latin typeface="Garamond"/>
              </a:rPr>
              <a:t>Изучив различную литературу по теме, мы решили провести эксперимент и в своем класс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fe1ff"/>
                </a:solidFill>
                <a:latin typeface="Garamond"/>
              </a:rPr>
              <a:t>В эксперименте участвовало 20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д экспери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Состояние опорно-двигательной системы у детей нашего клас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1285920" y="1857240"/>
          <a:ext cx="6715080" cy="31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857240"/>
                    <a:ext cx="671508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Прямоугольник 3"/>
          <p:cNvSpPr/>
          <p:nvPr/>
        </p:nvSpPr>
        <p:spPr>
          <a:xfrm>
            <a:off x="4572000" y="472140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Bookman Old Style"/>
              </a:rPr>
              <a:t>т </a:t>
            </a: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х 10 : 1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4"/>
          <p:cNvSpPr/>
          <p:nvPr/>
        </p:nvSpPr>
        <p:spPr>
          <a:xfrm>
            <a:off x="357120" y="4572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ормула вычисления правильного веса ранц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Таблица 3. Вес учебник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5" descr="Таблица 3"/>
          <p:cNvPicPr/>
          <p:nvPr/>
        </p:nvPicPr>
        <p:blipFill>
          <a:blip r:embed="rId1"/>
          <a:stretch/>
        </p:blipFill>
        <p:spPr>
          <a:xfrm>
            <a:off x="457200" y="1311120"/>
            <a:ext cx="5627520" cy="4494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Изображение 011"/>
          <p:cNvPicPr/>
          <p:nvPr/>
        </p:nvPicPr>
        <p:blipFill>
          <a:blip r:embed="rId2"/>
          <a:stretch/>
        </p:blipFill>
        <p:spPr>
          <a:xfrm>
            <a:off x="5580000" y="450864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Изображение 008"/>
          <p:cNvPicPr/>
          <p:nvPr/>
        </p:nvPicPr>
        <p:blipFill>
          <a:blip r:embed="rId3"/>
          <a:stretch/>
        </p:blipFill>
        <p:spPr>
          <a:xfrm>
            <a:off x="5651640" y="170028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aramond"/>
              </a:rPr>
              <a:t>Рекомендации родителя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купайте портфели и ранцы в соответствии с гигиеническими требова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ледите за содержимым портфелей ваших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 Ваших детей от тяжёлых нагрузок портится оса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аши дети быстрее устают, таская за своей спиной тяжелове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рачи рекомендуют средний вес пустого ранца для ученика начальной школы – 30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жалуйста, позаботьтесь о Ваших детях и об их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доровь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71680" y="285840"/>
            <a:ext cx="828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е носите лишнего в ранц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веряйте ранец ежедневно и не забывайте вытащить из него ненужные учеб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1500120" y="142920"/>
            <a:ext cx="64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Garamond"/>
              </a:rPr>
              <a:t>Рекомендации ученика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Garamond"/>
              </a:rPr>
              <a:t>Рекомендации учителя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Garamond"/>
              </a:rPr>
              <a:t>Снизить вес школьных ранцев и способствовать таким образом профилактике ортопедических и сердечно – сосудистых заболеваний у учащихся можно несколькими путя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пользовать только те учебники и пособия, которые прошли гигиеническую эксперти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 составлении школьного расписания учитывать гигиенические требования к весу ежедневных учебных компле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рганизовать для учеников начальной школы  хранение сменной обуви, спортивной формы, принадлежностей для уроков труда, изобразительного искусства в помещении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рганизовать в классе библиотеку необходимых книг для дополнительного ч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4:30:40Z</dcterms:created>
  <dc:creator>Anua</dc:creator>
  <dc:description/>
  <dc:language>en-US</dc:language>
  <cp:lastModifiedBy>Admin</cp:lastModifiedBy>
  <dcterms:modified xsi:type="dcterms:W3CDTF">2011-01-02T08:06:05Z</dcterms:modified>
  <cp:revision>15</cp:revision>
  <dc:subject/>
  <dc:title> Исследовательская работа  Тема: «Сколько весит  здоровье ученика» </dc:title>
</cp:coreProperties>
</file>